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eopardy%20theme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860-5FC0-4DF9-94E3-4A1B7010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5C5-B807-401A-A454-E179280C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C56-7230-4201-9C39-DAD2241B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682-FCF8-4109-A695-0F01D73B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C9C-A411-4B65-A953-174F3900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2FB-D25D-496E-AC66-B32B09AC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4B9-FC9A-44F4-A049-61CDEBB1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0C9-610F-4823-AE02-8DA8AA9B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285-B845-4E4E-A75C-6DAA7464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4A2-0E1D-43F5-A616-06563DC7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54C-0719-4CFB-A388-76AB6E45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C6E-2A8F-4269-AF4C-A3C8C59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68C4-3A24-4930-8762-0E4B0BD60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Jeopardy%20them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6.xm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CLAP.WAV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oepardy%20logo" descr=""/>
          <p:cNvPicPr/>
          <p:nvPr/>
        </p:nvPicPr>
        <p:blipFill>
          <a:blip r:embed="rId2"/>
          <a:srcRect l="0" t="0" r="48634" b="0"/>
          <a:stretch/>
        </p:blipFill>
        <p:spPr>
          <a:xfrm>
            <a:off x="419040" y="1738440"/>
            <a:ext cx="3238560" cy="1068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9800" y="106668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his button to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1371600" y="3429000"/>
            <a:ext cx="2133720" cy="2286000"/>
          </a:xfrm>
          <a:custGeom>
            <a:avLst/>
            <a:gdLst>
              <a:gd name="textAreaLeft" fmla="*/ 138240 w 2133720"/>
              <a:gd name="textAreaRight" fmla="*/ 1995480 w 2133720"/>
              <a:gd name="textAreaTop" fmla="*/ 138240 h 2286000"/>
              <a:gd name="textAreaBottom" fmla="*/ 2147760 h 228600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10800" y="1557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141">
                <a:moveTo>
                  <a:pt x="11905" y="15052"/>
                </a:moveTo>
                <a:lnTo>
                  <a:pt x="11905" y="13094"/>
                </a:lnTo>
                <a:cubicBezTo>
                  <a:pt x="11905" y="12267"/>
                  <a:pt x="12236" y="11571"/>
                  <a:pt x="12837" y="11571"/>
                </a:cubicBezTo>
                <a:cubicBezTo>
                  <a:pt x="13968" y="11571"/>
                  <a:pt x="14865" y="10204"/>
                  <a:pt x="14865" y="8620"/>
                </a:cubicBezTo>
                <a:cubicBezTo>
                  <a:pt x="14865" y="6305"/>
                  <a:pt x="13011" y="4564"/>
                  <a:pt x="10800" y="4564"/>
                </a:cubicBezTo>
                <a:cubicBezTo>
                  <a:pt x="8589" y="4564"/>
                  <a:pt x="6918" y="6305"/>
                  <a:pt x="6918" y="8620"/>
                </a:cubicBezTo>
                <a:lnTo>
                  <a:pt x="8772" y="8620"/>
                </a:lnTo>
                <a:cubicBezTo>
                  <a:pt x="8772" y="7480"/>
                  <a:pt x="9695" y="6592"/>
                  <a:pt x="10800" y="6592"/>
                </a:cubicBezTo>
                <a:cubicBezTo>
                  <a:pt x="11905" y="6592"/>
                  <a:pt x="12837" y="7480"/>
                  <a:pt x="12837" y="8620"/>
                </a:cubicBezTo>
                <a:cubicBezTo>
                  <a:pt x="12837" y="9360"/>
                  <a:pt x="12367" y="10091"/>
                  <a:pt x="11905" y="10091"/>
                </a:cubicBezTo>
                <a:cubicBezTo>
                  <a:pt x="10800" y="10091"/>
                  <a:pt x="9695" y="11571"/>
                  <a:pt x="9695" y="13094"/>
                </a:cubicBezTo>
                <a:lnTo>
                  <a:pt x="9695" y="15052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8960" y="3886200"/>
            <a:ext cx="472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his button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828800"/>
            <a:ext cx="51051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ologous chromoso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air up during meiosis an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change ge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like baseball cards, causing var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rossing 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828800"/>
            <a:ext cx="5105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riation in offspring may produce a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w and desirable trai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For the trait to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rea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rough the population it must have ________ 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228564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Adaptive valu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for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5146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a species produces more offspring than can possibly surviv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Overprodu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90512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verproduction and a limited amount of resources produces this between organism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828800"/>
            <a:ext cx="807696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he major benefit of sexual reproduction, which can lead to new traits that have adaptive valu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49528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 Sans MS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6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18634" y="10800"/>
                </a:lnTo>
                <a:lnTo>
                  <a:pt x="4621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762120"/>
            <a:ext cx="84582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volu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  <p:sndAc>
      <p:stSnd>
        <p:snd r:embed="rId3" name="Jeopardy%20them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438280"/>
            <a:ext cx="746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trait that helps an organism survive and reproduce is said to have _________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38188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daptive Valu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3124080" y="4800600"/>
            <a:ext cx="2362320" cy="129528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9389" h="21600">
                <a:moveTo>
                  <a:pt x="0" y="0"/>
                </a:moveTo>
                <a:lnTo>
                  <a:pt x="39389" y="0"/>
                </a:lnTo>
                <a:lnTo>
                  <a:pt x="39389" y="21600"/>
                </a:lnTo>
                <a:lnTo>
                  <a:pt x="0" y="21600"/>
                </a:lnTo>
                <a:close/>
              </a:path>
              <a:path fill="lightenLess" w="39389" h="21600">
                <a:moveTo>
                  <a:pt x="0" y="0"/>
                </a:moveTo>
                <a:lnTo>
                  <a:pt x="39389" y="0"/>
                </a:lnTo>
                <a:lnTo>
                  <a:pt x="37989" y="1400"/>
                </a:lnTo>
                <a:lnTo>
                  <a:pt x="1400" y="1400"/>
                </a:lnTo>
                <a:close/>
              </a:path>
              <a:path fill="darken" w="39389" h="21600">
                <a:moveTo>
                  <a:pt x="39389" y="0"/>
                </a:moveTo>
                <a:lnTo>
                  <a:pt x="39389" y="21600"/>
                </a:lnTo>
                <a:lnTo>
                  <a:pt x="37989" y="20200"/>
                </a:lnTo>
                <a:lnTo>
                  <a:pt x="37989" y="1400"/>
                </a:lnTo>
                <a:close/>
              </a:path>
              <a:path fill="darkenLess" w="39389" h="21600">
                <a:moveTo>
                  <a:pt x="39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9" y="20200"/>
                </a:lnTo>
                <a:close/>
              </a:path>
              <a:path fill="lighten" w="39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3623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process of the environment choosing which traits have the most adaptive value, thus choosing which organisms will surv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75248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aple tree releases hundreds of seeds in a single season. This is an example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a m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geographic iso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over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non-random m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. over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219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rrect interpretation of the theory of natural selection could b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The strongest surv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ture will cause mutations that fit t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Individuals will naturally select t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tions which allow them to liv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Individuals which are most fit to t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onditions will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Individuals which are most fit to the environmental conditions will surv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7652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is the best definition of ev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. Genetic change in an individ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. Genetic change in a population ov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he process by which humans cam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mon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. The process by which somat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tations are passed down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fsp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Genetic change in a population over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920"/>
            <a:ext cx="1524240" cy="1143000"/>
          </a:xfrm>
          <a:prstGeom prst="roundRect">
            <a:avLst>
              <a:gd name="adj" fmla="val 2083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304920"/>
            <a:ext cx="1371600" cy="1143000"/>
          </a:xfrm>
          <a:prstGeom prst="roundRect">
            <a:avLst>
              <a:gd name="adj" fmla="val 2083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04920"/>
            <a:ext cx="1371600" cy="1143000"/>
          </a:xfrm>
          <a:prstGeom prst="roundRect">
            <a:avLst>
              <a:gd name="adj" fmla="val 2083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t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04920"/>
            <a:ext cx="1371600" cy="1143000"/>
          </a:xfrm>
          <a:prstGeom prst="roundRect">
            <a:avLst>
              <a:gd name="adj" fmla="val 2083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533520" y="16002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53352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533520" y="4343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33520" y="53341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2590920" y="16002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2590920" y="25146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259092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2590920" y="4343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2590920" y="53341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5105520" y="16002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5105520" y="25146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510552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3" action="ppaction://hlinksldjump"/>
          </p:cNvPr>
          <p:cNvSpPr/>
          <p:nvPr/>
        </p:nvSpPr>
        <p:spPr>
          <a:xfrm>
            <a:off x="5105520" y="4343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3341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16002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25146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4343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53341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4" action="ppaction://hlinksldjump"/>
          </p:cNvPr>
          <p:cNvSpPr/>
          <p:nvPr/>
        </p:nvSpPr>
        <p:spPr>
          <a:xfrm>
            <a:off x="533520" y="25146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617220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67652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al similarities between the flippers of whales and the arms of humans are used to show that th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human species began life in the oce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human species and whales have a comm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e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whales are older than the human spe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 whales evolved from the human spe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 human species and whales have a common ancest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99072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hort “tailbones” of humans are thought to be an exampl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. Homologous structures proving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. An adaptation caused by an ear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cestors need to have a tail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. Homogeneous structures which indicat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mon ance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. Vestigial structures which are remnants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ructures no longer needed fo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rv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Vestigial structures which are remnants of structures no longer needed for surv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rvival of the Fittes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861048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struggle for survival between organisms over food, shelter, and 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rvival of the Fittes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les Darwin’s theory, that explains how the most fit survive to pass on their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212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rvival of the Fittes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raits that make on organism more fit to survive are said to have ________ ______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84872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Adaptive Va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763120" cy="2438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6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20040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stake in the DNA sequence, resulting in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rvival of the Fittes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2" marL="948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rwin's studies of finches on the Galapagos Islands suggest that the finches' differences in beak structure were most directly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.)acquired characteristics in the pare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nch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.)the size of the island where the finches l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.)mating behaviors of the different finc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.)adaptations of the finches to differe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.)adaptations of the finches to differe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of the Fittest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 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ertain strains of bacteria that could be killed by penicillin have now become resistant and penicillin is no longer effective. The probable explanation for this i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.the gene mutation rate must have increased natur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.the strains have become resistant because they needed to do so for surv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.a mutation that gave some of them resistance was passed on to succeeding generations because it had high survival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.the penicillin influence the bacterial pattern of m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a mutation that gave some of them resistance was passed on to succeeding generations because it had high survival va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95320" y="762120"/>
            <a:ext cx="7351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inal 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1143000"/>
            <a:ext cx="693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29528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129528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1295280"/>
            <a:ext cx="1752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121932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200400" y="8380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3049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89548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Name for a chain of Amino Ac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19320" y="2209680"/>
            <a:ext cx="64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olypeptid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81080" y="457200"/>
            <a:ext cx="47246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irection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>
            <a:hlinkClick r:id="" action="ppaction://hlinkshowjump?jump=nextslide"/>
            <a:hlinkClick r:id="rId2"/>
          </p:cNvPr>
          <p:cNvSpPr/>
          <p:nvPr/>
        </p:nvSpPr>
        <p:spPr>
          <a:xfrm>
            <a:off x="2057400" y="28954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/>
          </p:cNvPr>
          <p:cNvSpPr/>
          <p:nvPr/>
        </p:nvSpPr>
        <p:spPr>
          <a:xfrm>
            <a:off x="2057400" y="43434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7080" y="2892600"/>
            <a:ext cx="38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player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8880" y="449568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player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380880" y="57150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2" h="21600">
                <a:moveTo>
                  <a:pt x="8704" y="10800"/>
                </a:moveTo>
                <a:lnTo>
                  <a:pt x="22717" y="3794"/>
                </a:lnTo>
                <a:lnTo>
                  <a:pt x="22717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4720" y="59850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player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 categ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on the $100 dollar button and read the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your answer on your answer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 your answer by clicking on the butt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388620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438280" y="548640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5596" y="10800"/>
                </a:moveTo>
                <a:lnTo>
                  <a:pt x="19609" y="3794"/>
                </a:lnTo>
                <a:lnTo>
                  <a:pt x="19609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960" y="57150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player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ide who will go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player has a separate scor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yer one chooses a category and starts at the top with the $100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144792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" y="61722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19604" y="10800"/>
                </a:lnTo>
                <a:lnTo>
                  <a:pt x="5591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6920" y="61722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yer one writes an answer on the score sheet, then checks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 answer is correct, player one choose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 answer is incorrect, player two can answer the question, then choos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144792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880" y="61722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19604" y="10800"/>
                </a:lnTo>
                <a:lnTo>
                  <a:pt x="5591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6920" y="61722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players continue taking turns until all of the questions are answ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the end of the game players simply add their sc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144792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880" y="61722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791320" y="4267080"/>
            <a:ext cx="2514600" cy="1599840"/>
            <a:chOff x="5791320" y="4267080"/>
            <a:chExt cx="2514600" cy="1599840"/>
          </a:xfrm>
        </p:grpSpPr>
        <p:pic>
          <p:nvPicPr>
            <p:cNvPr id="215" name="Joepardy%20logo" descr=""/>
            <p:cNvPicPr/>
            <p:nvPr/>
          </p:nvPicPr>
          <p:blipFill>
            <a:blip r:embed="rId3"/>
            <a:srcRect l="0" t="0" r="48634" b="0"/>
            <a:stretch/>
          </p:blipFill>
          <p:spPr>
            <a:xfrm>
              <a:off x="5820480" y="5060880"/>
              <a:ext cx="248508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ancient%20egypt" descr=""/>
            <p:cNvPicPr/>
            <p:nvPr/>
          </p:nvPicPr>
          <p:blipFill>
            <a:blip r:embed="rId4"/>
            <a:stretch/>
          </p:blipFill>
          <p:spPr>
            <a:xfrm>
              <a:off x="5791320" y="4267080"/>
              <a:ext cx="2514600" cy="79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105520" y="5791320"/>
            <a:ext cx="37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5791320" y="4267080"/>
            <a:ext cx="2514600" cy="1600200"/>
          </a:xfrm>
          <a:custGeom>
            <a:avLst/>
            <a:gdLst>
              <a:gd name="textAreaLeft" fmla="*/ 103680 w 2514600"/>
              <a:gd name="textAreaRight" fmla="*/ 2410920 w 25146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3940" h="21600">
                <a:moveTo>
                  <a:pt x="0" y="0"/>
                </a:moveTo>
                <a:lnTo>
                  <a:pt x="33940" y="0"/>
                </a:lnTo>
                <a:lnTo>
                  <a:pt x="33940" y="21600"/>
                </a:lnTo>
                <a:lnTo>
                  <a:pt x="0" y="21600"/>
                </a:lnTo>
                <a:close/>
              </a:path>
              <a:path fill="lightenLess" w="33940" h="21600">
                <a:moveTo>
                  <a:pt x="0" y="0"/>
                </a:moveTo>
                <a:lnTo>
                  <a:pt x="33940" y="0"/>
                </a:lnTo>
                <a:lnTo>
                  <a:pt x="32540" y="1400"/>
                </a:lnTo>
                <a:lnTo>
                  <a:pt x="1400" y="1400"/>
                </a:lnTo>
                <a:close/>
              </a:path>
              <a:path fill="darken" w="33940" h="21600">
                <a:moveTo>
                  <a:pt x="33940" y="0"/>
                </a:moveTo>
                <a:lnTo>
                  <a:pt x="33940" y="21600"/>
                </a:lnTo>
                <a:lnTo>
                  <a:pt x="32540" y="20200"/>
                </a:lnTo>
                <a:lnTo>
                  <a:pt x="32540" y="1400"/>
                </a:lnTo>
                <a:close/>
              </a:path>
              <a:path fill="darkenLess" w="33940" h="21600">
                <a:moveTo>
                  <a:pt x="33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0" y="20200"/>
                </a:lnTo>
                <a:close/>
              </a:path>
              <a:path fill="lighten" w="33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43828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ype of cell division that produces unique offsp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209680"/>
            <a:ext cx="5257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ype of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odu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produces variation in the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04:31:18Z</dcterms:created>
  <dc:creator>WEBSTER SCHOOL DISTRICT</dc:creator>
  <dc:description/>
  <dc:language>en-US</dc:language>
  <cp:lastModifiedBy>WCSD</cp:lastModifiedBy>
  <cp:lastPrinted>1998-06-16T16:43:10Z</cp:lastPrinted>
  <dcterms:modified xsi:type="dcterms:W3CDTF">2004-03-24T19:43:09Z</dcterms:modified>
  <cp:revision>119</cp:revision>
  <dc:subject/>
  <dc:title>No Slide Title</dc:title>
</cp:coreProperties>
</file>